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4.png" ContentType="image/png"/>
  <Override PartName="/ppt/media/image24.gif" ContentType="image/gif"/>
  <Override PartName="/ppt/media/image12.png" ContentType="image/png"/>
  <Override PartName="/ppt/media/image23.png" ContentType="image/png"/>
  <Override PartName="/ppt/media/image21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2.gif" ContentType="image/gi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B878-5A64-48FF-8877-2CF4CB53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66C4-B3EF-481B-9E75-5E49CED5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64F-5050-46A6-A9F7-EB7E03F5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BAEE-B510-4BBB-B5C5-2A26A5CA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01C0-961F-4F25-BD24-57049378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2AEF-BD20-45F1-A575-579E7EFF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100A-D49A-43A1-87BA-DDDB18D1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E9BC-4AE6-4D13-9818-9E4EDDCF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7B63-42B1-425E-A42B-944D8415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E516-342C-4A48-AE55-209C18CD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6743-1080-45A2-A24F-05666128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AA4E-9D44-4223-98D2-9F7B8F44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C404-C339-4B0F-B6FD-90B57974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2C49-86D3-43DA-9645-56862713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C038-7061-4F0B-8DF7-91656074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C57C-EC46-4D4A-B08C-E4EC133E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BD8F-F205-4F3D-A8DF-63EAB701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E9AD-04AB-4A43-ABCA-B081AFED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C708-843C-4BED-83A5-AFE532AD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50B3-EB93-439D-B740-A1BB0D31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6E5A-FDDF-4106-A2C1-832FDA90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798F-9AC9-4333-AB85-AAF03D2C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09BC-E527-462C-887E-BA2CC4AA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1F8F-3DB7-41CD-8FEC-0688DD6A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572C-C883-4B95-ACEB-39DFA4E9BB5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" name="myszka" descr=""/>
          <p:cNvPicPr/>
          <p:nvPr/>
        </p:nvPicPr>
        <p:blipFill>
          <a:blip r:embed="rId5"/>
          <a:stretch/>
        </p:blipFill>
        <p:spPr>
          <a:xfrm>
            <a:off x="0" y="0"/>
            <a:ext cx="96048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9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CFBB-6058-45EF-A7C3-AC93A6D8240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myszka" descr=""/>
          <p:cNvPicPr/>
          <p:nvPr/>
        </p:nvPicPr>
        <p:blipFill>
          <a:blip r:embed="rId3"/>
          <a:stretch/>
        </p:blipFill>
        <p:spPr>
          <a:xfrm>
            <a:off x="0" y="0"/>
            <a:ext cx="960480" cy="1066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hyperlink" Target="file:///do&#347;wiadczenie.doc" TargetMode="External"/><Relationship Id="rId11" Type="http://schemas.openxmlformats.org/officeDocument/2006/relationships/slide" Target="slide16.xml"/><Relationship Id="rId1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" Target="slide1.xml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sip.com.pl/oip/fizyka_2/animacje/galeria_u.html" TargetMode="External"/><Relationship Id="rId2" Type="http://schemas.openxmlformats.org/officeDocument/2006/relationships/hyperlink" Target="http://www.wsip.com.pl/oip/fizyka_2/animacje/galeria_u.html" TargetMode="External"/><Relationship Id="rId3" Type="http://schemas.openxmlformats.org/officeDocument/2006/relationships/hyperlink" Target="http://www.wsip.com.pl/oip/fizyka_2/animacje/galeria_u.html" TargetMode="External"/><Relationship Id="rId4" Type="http://schemas.openxmlformats.org/officeDocument/2006/relationships/hyperlink" Target="http://www.wsip.com.pl/oip/fizyka_2/animacje/galeria_u.html" TargetMode="External"/><Relationship Id="rId5" Type="http://schemas.openxmlformats.org/officeDocument/2006/relationships/hyperlink" Target="http://www.wsip.com.pl/oip/fizyka_2/animacje/galeria_u.html" TargetMode="External"/><Relationship Id="rId6" Type="http://schemas.openxmlformats.org/officeDocument/2006/relationships/hyperlink" Target="http://www.wsip.com.pl/oip/fizyka_2/animacje/galeria_u.html" TargetMode="External"/><Relationship Id="rId7" Type="http://schemas.openxmlformats.org/officeDocument/2006/relationships/hyperlink" Target="http://www.wsip.com.pl/oip/fizyka_2/animacje/galeria_u.html" TargetMode="External"/><Relationship Id="rId8" Type="http://schemas.openxmlformats.org/officeDocument/2006/relationships/hyperlink" Target="http://www.wsip.com.pl/oip/fizyka_2/animacje/galeria_u.html" TargetMode="External"/><Relationship Id="rId9" Type="http://schemas.openxmlformats.org/officeDocument/2006/relationships/hyperlink" Target="http://www.wsip.com.pl/oip/fizyka_2/animacje/galeria_u.html" TargetMode="External"/><Relationship Id="rId10" Type="http://schemas.openxmlformats.org/officeDocument/2006/relationships/hyperlink" Target="http://www.wsip.com.pl/oip/fizyka_2/animacje/galeria_u.html" TargetMode="External"/><Relationship Id="rId11" Type="http://schemas.openxmlformats.org/officeDocument/2006/relationships/hyperlink" Target="http://www.wsip.com.pl/oip/fizyka_2/animacje/galeria_u.html" TargetMode="External"/><Relationship Id="rId12" Type="http://schemas.openxmlformats.org/officeDocument/2006/relationships/hyperlink" Target="http://www.wsip.com.pl/oip/fizyka_2/animacje/galeria_u.html" TargetMode="External"/><Relationship Id="rId13" Type="http://schemas.openxmlformats.org/officeDocument/2006/relationships/hyperlink" Target="http://www.wsip.com.pl/oip/fizyka_2/animacje/galeria_u.html" TargetMode="External"/><Relationship Id="rId14" Type="http://schemas.openxmlformats.org/officeDocument/2006/relationships/slide" Target="slide1.xml"/><Relationship Id="rId1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RUCH CIAŁ W POLU GRAWITACYJNYM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b0ae6a"/>
                </a:solidFill>
                <a:uFillTx/>
                <a:latin typeface="Times New Roman"/>
                <a:hlinkClick r:id="rId1" action="ppaction://hlinksldjump"/>
              </a:rPr>
              <a:t>Uwagi do scenariusz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3120" indent="-393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b0ae6a"/>
                </a:solidFill>
                <a:uFillTx/>
                <a:latin typeface="Times New Roman"/>
                <a:hlinkClick r:id="rId2" action="ppaction://hlinksldjump"/>
              </a:rPr>
              <a:t>Powtórzeni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3120" indent="-393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0ae6a"/>
                </a:solidFill>
                <a:latin typeface="Times New Roman"/>
              </a:rPr>
              <a:t>W</a:t>
            </a:r>
            <a:r>
              <a:rPr b="0" lang="pl-PL" sz="2800" spc="-1" strike="noStrike" u="sng">
                <a:solidFill>
                  <a:srgbClr val="b0ae6a"/>
                </a:solidFill>
                <a:uFillTx/>
                <a:latin typeface="Times New Roman"/>
                <a:hlinkClick r:id="rId3" action="ppaction://hlinksldjump"/>
              </a:rPr>
              <a:t>prowadzenie do lekcji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3120" indent="-393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0ae6a"/>
                </a:solidFill>
                <a:latin typeface="Times New Roman"/>
              </a:rPr>
              <a:t>O</a:t>
            </a:r>
            <a:r>
              <a:rPr b="0" lang="pl-PL" sz="2800" spc="-1" strike="noStrike" u="sng">
                <a:solidFill>
                  <a:srgbClr val="b0ae6a"/>
                </a:solidFill>
                <a:uFillTx/>
                <a:latin typeface="Times New Roman"/>
                <a:hlinkClick r:id="rId4" action="ppaction://hlinksldjump"/>
              </a:rPr>
              <a:t>dpowiedz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3120" indent="-393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Co dalej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3120" indent="-393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b0ae6a"/>
                </a:solidFill>
                <a:uFillTx/>
                <a:latin typeface="Times New Roman"/>
                <a:hlinkClick r:id="rId5" action="ppaction://hlinksldjump"/>
              </a:rPr>
              <a:t>Spadek swobodn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3120" indent="-393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0ae6a"/>
                </a:solidFill>
                <a:latin typeface="Times New Roman"/>
              </a:rPr>
              <a:t>R</a:t>
            </a:r>
            <a:r>
              <a:rPr b="0" lang="pl-PL" sz="2800" spc="-1" strike="noStrike" u="sng">
                <a:solidFill>
                  <a:srgbClr val="b0ae6a"/>
                </a:solidFill>
                <a:uFillTx/>
                <a:latin typeface="Times New Roman"/>
                <a:hlinkClick r:id="rId6" action="ppaction://hlinksldjump"/>
              </a:rPr>
              <a:t>zut</a:t>
            </a:r>
            <a:r>
              <a:rPr b="0" lang="pl-PL" sz="2800" spc="-1" strike="noStrike" u="sng">
                <a:solidFill>
                  <a:srgbClr val="b0ae6a"/>
                </a:solidFill>
                <a:uFillTx/>
                <a:latin typeface="Times New Roman"/>
                <a:hlinkClick r:id="rId7" action="ppaction://hlinksldjump"/>
              </a:rPr>
              <a:t> pionowy w górę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3120" indent="-393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0ae6a"/>
                </a:solidFill>
                <a:latin typeface="Times New Roman"/>
              </a:rPr>
              <a:t>R</a:t>
            </a:r>
            <a:r>
              <a:rPr b="0" lang="pl-PL" sz="2800" spc="-1" strike="noStrike" u="sng">
                <a:solidFill>
                  <a:srgbClr val="b0ae6a"/>
                </a:solidFill>
                <a:uFillTx/>
                <a:latin typeface="Times New Roman"/>
                <a:hlinkClick r:id="rId8" action="ppaction://hlinksldjump"/>
              </a:rPr>
              <a:t>zut</a:t>
            </a:r>
            <a:r>
              <a:rPr b="0" lang="pl-PL" sz="2800" spc="-1" strike="noStrike" u="sng">
                <a:solidFill>
                  <a:srgbClr val="b0ae6a"/>
                </a:solidFill>
                <a:uFillTx/>
                <a:latin typeface="Times New Roman"/>
                <a:hlinkClick r:id="rId9" action="ppaction://hlinksldjump"/>
              </a:rPr>
              <a:t> poziom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3120" indent="-393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b0ae6a"/>
                </a:solidFill>
                <a:uFillTx/>
                <a:latin typeface="Times New Roman"/>
                <a:hlinkClick r:id="rId10"/>
              </a:rPr>
              <a:t>Doświadczeni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3120" indent="-393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5b5249"/>
                </a:solidFill>
                <a:latin typeface="Times New Roman"/>
              </a:rPr>
              <a:t>T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93120" indent="-3931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b0ae6a"/>
                </a:solidFill>
                <a:uFillTx/>
                <a:latin typeface="Times New Roman"/>
                <a:hlinkClick r:id="rId11" action="ppaction://hlinksldjump"/>
              </a:rPr>
              <a:t>Koniec pokazu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FEB-6C17-45C6-80FB-B056E46C14F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38df"/>
                </a:solidFill>
                <a:latin typeface="Times New Roman"/>
              </a:rPr>
              <a:t>ODPOWIEDZ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5b5249"/>
                </a:solidFill>
                <a:latin typeface="Times New Roman"/>
              </a:rPr>
              <a:t>Co nazywamy polem grawitacyjnym?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5b5249"/>
                </a:solidFill>
                <a:latin typeface="Times New Roman"/>
              </a:rPr>
              <a:t>Jakie cechy posiada siła działająca w jednorodnym polu grawitacyjnym?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5b5249"/>
                </a:solidFill>
                <a:latin typeface="Times New Roman"/>
              </a:rPr>
              <a:t>Podaj przykłady ciał poruszających się pod wpływem siły grawitacji w ziemskim polu grawitacyjnym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5b5249"/>
                </a:solidFill>
                <a:latin typeface="Times New Roman"/>
              </a:rPr>
              <a:t>Jakie rozróżniasz ruchy ciał ze względu na ich prędkość?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5b5249"/>
                </a:solidFill>
                <a:latin typeface="Times New Roman"/>
              </a:rPr>
              <a:t>Jaka jest przyczyna ruchu jednostajnego prostoliniowego?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5b5249"/>
                </a:solidFill>
                <a:latin typeface="Times New Roman"/>
              </a:rPr>
              <a:t>Jak określisz definicją ruch jednostajnie zmienny?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5b5249"/>
                </a:solidFill>
                <a:latin typeface="Times New Roman"/>
              </a:rPr>
              <a:t>Wymień rodzaje energii mechanicznej posiadanej przez ciała i je scharakteryzuj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6095880"/>
            <a:ext cx="3429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0ae6a"/>
                </a:solidFill>
                <a:uFillTx/>
                <a:latin typeface="Times New Roman"/>
                <a:hlinkClick r:id="rId1" action="ppaction://hlinksldjump"/>
              </a:rPr>
              <a:t>Powrót do początku-slajd nr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2E18-F152-4F07-919D-1F1DF9AB02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52680" y="685800"/>
            <a:ext cx="419112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38df"/>
                </a:solidFill>
                <a:latin typeface="Times New Roman"/>
              </a:rPr>
              <a:t>Co dalej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133720" y="1904760"/>
            <a:ext cx="6705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Jeżeli poradziłeś sobie z pytaniami 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poznaj ruchy ciał  pod wpływem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ziemskiego pola grawitacyjneg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NA01441_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1493640" cy="1685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447920" y="175248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•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676520" y="2133360"/>
            <a:ext cx="75960" cy="759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Wingdings"/>
                <a:ea typeface="Wingdings"/>
              </a:rPr>
              <a:t>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676520" y="1676160"/>
            <a:ext cx="0" cy="759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54864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hlinkClick r:id="rId2" action="ppaction://hlinksldjump"/>
              </a:rPr>
              <a:t>Powrót do początku-slajd nr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8B46-D768-4136-9475-45DCC1DA232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19520" y="457200"/>
            <a:ext cx="3962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38d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2138df"/>
                </a:solidFill>
                <a:latin typeface="Times New Roman"/>
              </a:rPr>
              <a:t>SPADEK  SWOBODNY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44000" y="533520"/>
            <a:ext cx="76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6002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2424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27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267440" cy="2361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905120" y="41911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3962520"/>
            <a:ext cx="8381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iało jest puszczone swobodnie z wysokości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i porusza się pod działaniem siły ciężkości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w dół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Jest to przykład ruchu jednostajnie przyśpieszonego prostoliniowego. Ciało porusza się bez prędkości początkowej z przyśpieszeniem ziemskim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g.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zas spadku ciała wyraża się wzorem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: t = 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2h/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9572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9" name="103" descr=""/>
          <p:cNvPicPr/>
          <p:nvPr/>
        </p:nvPicPr>
        <p:blipFill>
          <a:blip r:embed="rId2"/>
          <a:stretch/>
        </p:blipFill>
        <p:spPr>
          <a:xfrm>
            <a:off x="6934320" y="1600200"/>
            <a:ext cx="1218960" cy="13716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114800" y="6172200"/>
            <a:ext cx="3886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imes New Roman"/>
              </a:rPr>
              <a:t>Powrót do początku-slajd nr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A4FB-70F4-4E98-A712-76156E74291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66680" y="4114800"/>
            <a:ext cx="6553440" cy="25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zykłady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. Swobodny spadek ciał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a podstawie zasady zachowania energii możemy zapisać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= E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= E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= E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Times New Roman"/>
                <a:ea typeface="Times New Roman"/>
              </a:rPr>
              <a:t>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2" name="43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3048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19320" y="457200"/>
            <a:ext cx="6705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8df"/>
                </a:solidFill>
                <a:latin typeface="Times New Roman"/>
              </a:rPr>
              <a:t>Zasada zachowania energii w spadku swobodny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76920" y="5791320"/>
            <a:ext cx="4038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imes New Roman"/>
              </a:rPr>
              <a:t>Powrót do energii-slajd nr8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h/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2971800"/>
            <a:ext cx="380880" cy="380880"/>
          </a:xfrm>
          <a:prstGeom prst="ellipse">
            <a:avLst/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1905120"/>
            <a:ext cx="381240" cy="380880"/>
          </a:xfrm>
          <a:prstGeom prst="ellipse">
            <a:avLst/>
          </a:prstGeom>
          <a:solidFill>
            <a:srgbClr val="fac1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2133720"/>
            <a:ext cx="0" cy="3045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3200400"/>
            <a:ext cx="381240" cy="380880"/>
          </a:xfrm>
          <a:prstGeom prst="ellipse">
            <a:avLst/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3200400"/>
            <a:ext cx="0" cy="4572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3429000"/>
            <a:ext cx="0" cy="6858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388620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V</a:t>
            </a:r>
            <a:r>
              <a:rPr b="0" lang="en-US" sz="1400" spc="-1" strike="noStrike" baseline="-25000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76520" y="2209680"/>
            <a:ext cx="412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</a:t>
            </a:r>
            <a:r>
              <a:rPr b="0" lang="en-US" sz="1200" spc="-1" strike="noStrike" baseline="-25000">
                <a:solidFill>
                  <a:srgbClr val="5b5249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335268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</a:t>
            </a:r>
            <a:r>
              <a:rPr b="0" lang="en-US" sz="1200" spc="-1" strike="noStrike" baseline="-25000">
                <a:solidFill>
                  <a:srgbClr val="5b524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A006-A989-43E5-A19B-0236F2E7B25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38df"/>
                </a:solidFill>
                <a:latin typeface="Times New Roman"/>
              </a:rPr>
              <a:t>RZUT PIONOWY W GÓRĘ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976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7" name="28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952880" cy="1981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752480" y="4114800"/>
            <a:ext cx="6782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Rzut pionowy do góry jest przykładem ruchu jednostajnie opóźnionego prostoliniowego. Prędkość w tym ruchu maleje jednostajnie w czasie. W najwyższym punkcie toru prędkość końcowa jest równa 0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2440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0" name="r10" descr=""/>
          <p:cNvPicPr/>
          <p:nvPr/>
        </p:nvPicPr>
        <p:blipFill>
          <a:blip r:embed="rId2"/>
          <a:stretch/>
        </p:blipFill>
        <p:spPr>
          <a:xfrm>
            <a:off x="3200400" y="2819520"/>
            <a:ext cx="609480" cy="447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029200" y="5715000"/>
            <a:ext cx="3505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Powrót do początku-slajd nr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C905-66B0-4D99-910F-75E2F41CB69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38df"/>
                </a:solidFill>
                <a:latin typeface="Times New Roman"/>
              </a:rPr>
              <a:t>RZUT  POZIOMY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1472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4" name="29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962240" cy="2895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5800" y="4800600"/>
            <a:ext cx="78487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Rzut poziomy jest złożeniem ruchu jednostajnie prostoliniowego w kierunku osi OX i swobodnego spadku ciała w kierunku osi OY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Zasięg rzutu (odległość od miejsca wyrzutu do miejsca upadku ) wyraża się wzorem :    </a:t>
            </a:r>
            <a:r>
              <a:rPr b="1" lang="pl-PL" sz="2000" spc="-1" strike="noStrike">
                <a:solidFill>
                  <a:srgbClr val="5b5249"/>
                </a:solidFill>
                <a:latin typeface="Times New Roman"/>
              </a:rPr>
              <a:t>z = v</a:t>
            </a:r>
            <a:r>
              <a:rPr b="1" lang="pl-PL" sz="2000" spc="-1" strike="noStrike" baseline="-25000">
                <a:solidFill>
                  <a:srgbClr val="5b5249"/>
                </a:solidFill>
                <a:latin typeface="Times New Roman"/>
              </a:rPr>
              <a:t>o</a:t>
            </a:r>
            <a:r>
              <a:rPr b="1" lang="pl-PL" sz="2000" spc="-1" strike="noStrike">
                <a:solidFill>
                  <a:srgbClr val="5b5249"/>
                </a:solidFill>
                <a:latin typeface="Times New Roman"/>
              </a:rPr>
              <a:t> * 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19920" y="19051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0056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8" name="107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542880" cy="476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495680" y="6172200"/>
            <a:ext cx="4419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Powrót do początku-slajd nr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A42A-4887-490B-B15F-2EE5B93FAA9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2a3d7a"/>
                </a:solidFill>
                <a:latin typeface="Benguiat Bk BT"/>
              </a:rPr>
              <a:t>KONIEC  POKAZU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790560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pl-PL" sz="3200" spc="-1" strike="noStrike">
                <a:solidFill>
                  <a:srgbClr val="5b5249"/>
                </a:solidFill>
                <a:latin typeface="Benguiat Bk BT"/>
              </a:rPr>
              <a:t>DZIĘKUJĘ  ZA PRACĘ  NA LEKCJI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b5249"/>
                </a:solidFill>
                <a:latin typeface="Benguiat Bk BT"/>
              </a:rPr>
              <a:t>Opracowała 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b5249"/>
                </a:solidFill>
                <a:latin typeface="Benguiat Bk BT"/>
              </a:rPr>
              <a:t>Elżbieta Warzybok , Zespół Szkół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b5249"/>
                </a:solidFill>
                <a:latin typeface="Benguiat Bk BT"/>
              </a:rPr>
              <a:t>Gastronomicznych w Gorzowie Wlkp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6324480"/>
            <a:ext cx="4190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imes New Roman"/>
              </a:rPr>
              <a:t>Powrót do początku-slajd nr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B5D1-FF97-49CC-A275-5EF24F25DD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UWAGI  DO  SCENARIUSZ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81532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Lekcję „RUCH CIAŁ W POLU GRAWITACYJNYM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można przeprowadzić dwoma metodami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a50021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Metoda pierwsza tradycyjna (ujęta w konspekcie) wymaga większego zaangażowania nauczyciela.Uczniowie wykonują doświadczenie w pracowni fizycznej z wykorzystaniem pistoletu balistycznego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Konspekt lekcji „ruch ciał w polu grawitacyjnym”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2) Metoda druga ( ujęta na slajdach) oparta jest na samodzielnej pracy ucznia .Uczeń sam powtarza materiał , przyswaja nową wiedzę , wykonuje doświadczenie z użyciem komputera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pl-PL" sz="1600" spc="-1" strike="noStrike" u="sng">
                <a:solidFill>
                  <a:srgbClr val="5b5249"/>
                </a:solidFill>
                <a:uFillTx/>
                <a:latin typeface="Times New Roman"/>
              </a:rPr>
              <a:t>konspekt lekcji z użyciem komputera „Ruch ciał w polu grawitacyjnym”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5b5249"/>
                </a:solidFill>
                <a:latin typeface="Times New Roman"/>
              </a:rPr>
              <a:t>W obu przypadkach niezbędne jest podsumowanie lekcji przez nauczyciela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2138df"/>
                </a:solidFill>
                <a:latin typeface="Times New Roman"/>
              </a:rPr>
              <a:t>                                                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hlinkClick r:id="rId1" action="ppaction://hlinksldjump"/>
              </a:rPr>
              <a:t>Powrót do początku- slajd nr 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1973-05F3-47FC-9521-0972FFE03F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38df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2138df"/>
                </a:solidFill>
                <a:latin typeface="Times New Roman"/>
              </a:rPr>
              <a:t>Pojęcie ruchu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Ruch polega na tym, że w miarę upływu czasu zmienia się położenie ciała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Ruch jest pojęciem względnym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kreś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jąc jego występowanie zawsze musimy (chociaż w my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ś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ach) zakładać, względem jakiego układu odniesienia opisujemy to zjawisko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</a:t>
            </a:r>
            <a:r>
              <a:rPr b="0" lang="en-US" sz="2000" spc="-1" strike="noStrike" u="sng">
                <a:solidFill>
                  <a:srgbClr val="b0ae6a"/>
                </a:solidFill>
                <a:uFillTx/>
                <a:latin typeface="Times New Roman"/>
                <a:hlinkClick r:id="rId1" action="ppaction://hlinksldjump"/>
              </a:rPr>
              <a:t>Powrót do początku- slajd nr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990360" y="4343400"/>
            <a:ext cx="7596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D100-FE8A-4A84-B269-D1C7D2089D7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3880" y="762120"/>
            <a:ext cx="6553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685800"/>
            <a:ext cx="7238880" cy="34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orem tego ruchu jest linia prosta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Wartość drogi jest równa wartości przemieszczenia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roga zmienia się jednostajnie w czasie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ykres drogi (wartości przemieszczenia) od czasu jest proporcjonalnością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prostą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2.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ielkością stałą jest prędkość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Wykres prędkości od czasu w ruchu jednostajnym prostoliniowym jest funkcją stałą.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2" name="14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2790720" cy="1752840"/>
          </a:xfrm>
          <a:prstGeom prst="rect">
            <a:avLst/>
          </a:prstGeom>
          <a:ln w="0">
            <a:noFill/>
          </a:ln>
        </p:spPr>
      </p:pic>
      <p:pic>
        <p:nvPicPr>
          <p:cNvPr id="103" name="15" descr=""/>
          <p:cNvPicPr/>
          <p:nvPr/>
        </p:nvPicPr>
        <p:blipFill>
          <a:blip r:embed="rId2"/>
          <a:stretch/>
        </p:blipFill>
        <p:spPr>
          <a:xfrm>
            <a:off x="2438280" y="4191120"/>
            <a:ext cx="3048120" cy="1828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23880" y="380880"/>
            <a:ext cx="5181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2138df"/>
                </a:solidFill>
                <a:latin typeface="Times New Roman"/>
              </a:rPr>
              <a:t>RUCH  JEDNOSTAJN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2438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 = v* 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5181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v = s/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640080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0ae6a"/>
                </a:solidFill>
                <a:uFillTx/>
                <a:latin typeface="Times New Roman"/>
                <a:hlinkClick r:id="rId3" action="ppaction://hlinksldjump"/>
              </a:rPr>
              <a:t>Powrót do początku-slajd nr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579C-D417-4C82-847D-FAFE0FBC6F4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1219320"/>
            <a:ext cx="8077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b5249"/>
                </a:solidFill>
                <a:latin typeface="Times New Roman"/>
              </a:rPr>
              <a:t>Ciało </a:t>
            </a: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jak wynika z nazwy ruchu, przy</a:t>
            </a:r>
            <a:r>
              <a:rPr b="0" lang="pl-PL" sz="18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iesza. Co to jest przy</a:t>
            </a:r>
            <a:r>
              <a:rPr b="0" lang="pl-PL" sz="1800" spc="-1" strike="noStrike">
                <a:solidFill>
                  <a:srgbClr val="5b5249"/>
                </a:solidFill>
                <a:latin typeface="Times New Roman"/>
              </a:rPr>
              <a:t>ś</a:t>
            </a: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ieszenie?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zy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ieszenie jest to wielko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</a:rPr>
              <a:t>ś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ć fizyczna wektorowa, okre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</a:rPr>
              <a:t>ś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aj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</a:rPr>
              <a:t>ą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a przyrost prędko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</a:rPr>
              <a:t>ś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i punktu materialnego do czasu, w którym ten przyrost nast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</a:rPr>
              <a:t>ą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i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</a:rPr>
              <a:t>ł</a:t>
            </a:r>
            <a:r>
              <a:rPr b="1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zyspieszeni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W ruchu jednostajnie zmiennym wektor przy</a:t>
            </a:r>
            <a:r>
              <a:rPr b="0" lang="pl-PL" sz="18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ieszenia nie zmienia się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Wykres przy</a:t>
            </a:r>
            <a:r>
              <a:rPr b="0" lang="pl-PL" sz="18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ieszenia od czasu przedstawia się następuj</a:t>
            </a:r>
            <a:r>
              <a:rPr b="0" lang="pl-PL" sz="1800" spc="-1" strike="noStrike">
                <a:solidFill>
                  <a:srgbClr val="5b5249"/>
                </a:solidFill>
                <a:latin typeface="Times New Roman"/>
              </a:rPr>
              <a:t>ą</a:t>
            </a: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o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Image221" descr=""/>
          <p:cNvPicPr/>
          <p:nvPr/>
        </p:nvPicPr>
        <p:blipFill>
          <a:blip r:embed="rId1"/>
          <a:stretch/>
        </p:blipFill>
        <p:spPr>
          <a:xfrm>
            <a:off x="2895480" y="2514600"/>
            <a:ext cx="762120" cy="53352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1752480" y="301932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" name="18" descr=""/>
          <p:cNvPicPr/>
          <p:nvPr/>
        </p:nvPicPr>
        <p:blipFill>
          <a:blip r:embed="rId2"/>
          <a:stretch/>
        </p:blipFill>
        <p:spPr>
          <a:xfrm>
            <a:off x="2438280" y="4038480"/>
            <a:ext cx="2914920" cy="1905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95280" y="457200"/>
            <a:ext cx="5334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533520"/>
            <a:ext cx="5105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457200"/>
            <a:ext cx="541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8df"/>
                </a:solidFill>
                <a:latin typeface="Times New Roman"/>
              </a:rPr>
              <a:t>RUCH  JEDNOSTAJNIE PRZYSPIESZONY (OPÓŹNIONY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632448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0ae6a"/>
                </a:solidFill>
                <a:uFillTx/>
                <a:latin typeface="Times New Roman"/>
                <a:hlinkClick r:id="rId3" action="ppaction://hlinksldjump"/>
              </a:rPr>
              <a:t>Powrót do początku-slajd nr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4999-AF8A-4F10-9A34-16BCEE1338B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219320"/>
            <a:ext cx="80773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Wróćmy do definicji przy</a:t>
            </a: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ieszenia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Po przekształceniu otrzymamy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zy przyrównaniu dwóch równań do siebie </a:t>
            </a: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trzymujemy równanie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Jest to wzór na prędko</a:t>
            </a: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ś</a:t>
            </a:r>
            <a:r>
              <a:rPr b="0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ć w ruchu jednostajnym zmiennym</a:t>
            </a: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</a:rPr>
              <a:t>+  (ruch jednostajnie przyspieszony 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</a:rPr>
              <a:t>- ( ruch jednostajnie opóźniony 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Image221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533160" cy="419400"/>
          </a:xfrm>
          <a:prstGeom prst="rect">
            <a:avLst/>
          </a:prstGeom>
          <a:ln w="0">
            <a:noFill/>
          </a:ln>
        </p:spPr>
      </p:pic>
      <p:pic>
        <p:nvPicPr>
          <p:cNvPr id="118" name="Image224" descr=""/>
          <p:cNvPicPr/>
          <p:nvPr/>
        </p:nvPicPr>
        <p:blipFill>
          <a:blip r:embed="rId2"/>
          <a:stretch/>
        </p:blipFill>
        <p:spPr>
          <a:xfrm>
            <a:off x="4038480" y="1981080"/>
            <a:ext cx="733680" cy="162000"/>
          </a:xfrm>
          <a:prstGeom prst="rect">
            <a:avLst/>
          </a:prstGeom>
          <a:ln w="0">
            <a:noFill/>
          </a:ln>
        </p:spPr>
      </p:pic>
      <p:pic>
        <p:nvPicPr>
          <p:cNvPr id="119" name="Image225" descr=""/>
          <p:cNvPicPr/>
          <p:nvPr/>
        </p:nvPicPr>
        <p:blipFill>
          <a:blip r:embed="rId3"/>
          <a:stretch/>
        </p:blipFill>
        <p:spPr>
          <a:xfrm>
            <a:off x="5410080" y="2590920"/>
            <a:ext cx="857520" cy="247680"/>
          </a:xfrm>
          <a:prstGeom prst="rect">
            <a:avLst/>
          </a:prstGeom>
          <a:ln w="0">
            <a:noFill/>
          </a:ln>
        </p:spPr>
      </p:pic>
      <p:pic>
        <p:nvPicPr>
          <p:cNvPr id="120" name="Image226" descr=""/>
          <p:cNvPicPr/>
          <p:nvPr/>
        </p:nvPicPr>
        <p:blipFill>
          <a:blip r:embed="rId4"/>
          <a:stretch/>
        </p:blipFill>
        <p:spPr>
          <a:xfrm>
            <a:off x="6705720" y="2590920"/>
            <a:ext cx="961920" cy="228600"/>
          </a:xfrm>
          <a:prstGeom prst="rect">
            <a:avLst/>
          </a:prstGeom>
          <a:ln w="0">
            <a:noFill/>
          </a:ln>
        </p:spPr>
      </p:pic>
      <p:pic>
        <p:nvPicPr>
          <p:cNvPr id="121" name="Image227" descr=""/>
          <p:cNvPicPr/>
          <p:nvPr/>
        </p:nvPicPr>
        <p:blipFill>
          <a:blip r:embed="rId5"/>
          <a:stretch/>
        </p:blipFill>
        <p:spPr>
          <a:xfrm>
            <a:off x="3200400" y="3048120"/>
            <a:ext cx="1676520" cy="990360"/>
          </a:xfrm>
          <a:prstGeom prst="rect">
            <a:avLst/>
          </a:prstGeom>
          <a:ln w="9360">
            <a:solidFill>
              <a:srgbClr val="2138df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1066680" y="3049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2138df"/>
                </a:solidFill>
                <a:latin typeface="Times New Roman"/>
              </a:rPr>
              <a:t>Prędkość w ruchu zmienny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60958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                       </a:t>
            </a:r>
            <a:r>
              <a:rPr b="0" lang="en-US" sz="2000" spc="-1" strike="noStrike" u="sng">
                <a:solidFill>
                  <a:srgbClr val="b0ae6a"/>
                </a:solidFill>
                <a:uFillTx/>
                <a:latin typeface="Times New Roman"/>
                <a:hlinkClick r:id="rId6" action="ppaction://hlinksldjump"/>
              </a:rPr>
              <a:t>Powrót do początku-slajd nr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04B6-5FCD-46BC-B06D-80E7A970F7B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143000"/>
            <a:ext cx="8077320" cy="49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Z 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ruchu jednostajnie prostoliniowego wiemy, że drogę można interpretować jako pole figury zawarte między wykresem V=f(t) a osi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ą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czasu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by obliczyć drogę musimy obliczyć pole prostok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ą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a i pole trójk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ą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a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</a:rPr>
              <a:t>Stąd :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wiemy, że</a:t>
            </a:r>
            <a:r>
              <a:rPr b="0" lang="pl-PL" sz="1200" spc="-1" strike="noStrike">
                <a:solidFill>
                  <a:srgbClr val="5b5249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trzymujemy więc</a:t>
            </a:r>
            <a:r>
              <a:rPr b="0" lang="pl-PL" sz="12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"+" - ruch jednostajnie przy</a:t>
            </a:r>
            <a:r>
              <a:rPr b="0" lang="pl-PL" sz="1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ieszon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"-" - ruch jednostajnie</a:t>
            </a:r>
            <a:r>
              <a:rPr b="0" lang="pl-PL" sz="1200" spc="-1" strike="noStrike">
                <a:solidFill>
                  <a:srgbClr val="5b5249"/>
                </a:solidFill>
                <a:latin typeface="Times New Roman"/>
              </a:rPr>
              <a:t> opóźnion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22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4267080" cy="2057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48006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Image230" descr=""/>
          <p:cNvPicPr/>
          <p:nvPr/>
        </p:nvPicPr>
        <p:blipFill>
          <a:blip r:embed="rId2"/>
          <a:stretch/>
        </p:blipFill>
        <p:spPr>
          <a:xfrm>
            <a:off x="1828800" y="5029200"/>
            <a:ext cx="1562040" cy="39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8" name="Image224" descr=""/>
          <p:cNvPicPr/>
          <p:nvPr/>
        </p:nvPicPr>
        <p:blipFill>
          <a:blip r:embed="rId3"/>
          <a:stretch/>
        </p:blipFill>
        <p:spPr>
          <a:xfrm>
            <a:off x="1295280" y="4648320"/>
            <a:ext cx="733680" cy="161640"/>
          </a:xfrm>
          <a:prstGeom prst="rect">
            <a:avLst/>
          </a:prstGeom>
          <a:ln w="0">
            <a:noFill/>
          </a:ln>
        </p:spPr>
      </p:pic>
      <p:pic>
        <p:nvPicPr>
          <p:cNvPr id="129" name="Image231" descr=""/>
          <p:cNvPicPr/>
          <p:nvPr/>
        </p:nvPicPr>
        <p:blipFill>
          <a:blip r:embed="rId4"/>
          <a:stretch/>
        </p:blipFill>
        <p:spPr>
          <a:xfrm>
            <a:off x="5715000" y="3200400"/>
            <a:ext cx="1571760" cy="390600"/>
          </a:xfrm>
          <a:prstGeom prst="rect">
            <a:avLst/>
          </a:prstGeom>
          <a:ln w="0">
            <a:noFill/>
          </a:ln>
        </p:spPr>
      </p:pic>
      <p:pic>
        <p:nvPicPr>
          <p:cNvPr id="130" name="Image220" descr=""/>
          <p:cNvPicPr/>
          <p:nvPr/>
        </p:nvPicPr>
        <p:blipFill>
          <a:blip r:embed="rId5"/>
          <a:stretch/>
        </p:blipFill>
        <p:spPr>
          <a:xfrm>
            <a:off x="1066680" y="3733920"/>
            <a:ext cx="1314720" cy="41904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1752480" y="22860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2138df"/>
                </a:solidFill>
                <a:latin typeface="Times New Roman"/>
              </a:rPr>
              <a:t>Droga w ruchu zmienny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3581280"/>
            <a:ext cx="5029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Jest to wzór na przebytą drogę w ruchu jednostajnie zmienny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6172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0ae6a"/>
                </a:solidFill>
                <a:uFillTx/>
                <a:latin typeface="Times New Roman"/>
                <a:hlinkClick r:id="rId6" action="ppaction://hlinksldjump"/>
              </a:rPr>
              <a:t>Powrót do początku-slajd nr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6FF3-1BB4-49B9-9AA7-E7E7D1793FE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-35136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38df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2138df"/>
                </a:solidFill>
                <a:latin typeface="Times New Roman"/>
              </a:rPr>
              <a:t>ENERGI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5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ergia jest formą wykonania przez układ lub nad układem pewnej pracy.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ergia jest wielkością skalarną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Występują następujące rodzaje energii mechanicznej: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5b5249"/>
                </a:solidFill>
                <a:latin typeface="Times New Roman"/>
              </a:rPr>
              <a:t>kinetyczna</a:t>
            </a:r>
            <a:r>
              <a:rPr b="0" lang="pl-PL" sz="12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33"/>
                </a:solidFill>
                <a:latin typeface="Times New Roman"/>
              </a:rPr>
              <a:t>E</a:t>
            </a:r>
            <a:r>
              <a:rPr b="0" lang="pl-PL" sz="2400" spc="-1" strike="noStrike" baseline="-25000">
                <a:solidFill>
                  <a:srgbClr val="990033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990033"/>
                </a:solidFill>
                <a:latin typeface="Times New Roman"/>
              </a:rPr>
              <a:t> = m *v</a:t>
            </a:r>
            <a:r>
              <a:rPr b="0" lang="pl-PL" sz="24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990033"/>
                </a:solidFill>
                <a:latin typeface="Times New Roman"/>
              </a:rPr>
              <a:t>/ 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ergię kinetyczną posiadają ciała będące w ruchu</a:t>
            </a:r>
            <a:r>
              <a:rPr b="0" i="1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.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Wielkością charakteryzującą energię kinetyczną jest prędkość V ciała. 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ergia kinetyczna jest równa pracy, jaką trzeba wykonać, aby ciału pozostającemu w spoczynku nadać prędkoś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ć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5b5249"/>
                </a:solidFill>
                <a:latin typeface="Times New Roman"/>
              </a:rPr>
              <a:t>potencjaln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33"/>
                </a:solidFill>
                <a:latin typeface="Times New Roman"/>
              </a:rPr>
              <a:t>E</a:t>
            </a:r>
            <a:r>
              <a:rPr b="1" lang="pl-PL" sz="2400" spc="-1" strike="noStrike" baseline="-25000">
                <a:solidFill>
                  <a:srgbClr val="990033"/>
                </a:solidFill>
                <a:latin typeface="Times New Roman"/>
              </a:rPr>
              <a:t>p</a:t>
            </a:r>
            <a:r>
              <a:rPr b="1" lang="pl-PL" sz="2400" spc="-1" strike="noStrike">
                <a:solidFill>
                  <a:srgbClr val="990033"/>
                </a:solidFill>
                <a:latin typeface="Times New Roman"/>
              </a:rPr>
              <a:t> = m* g * 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ergię potencjalną posiadają ciała znajdujące się na pewnej wysokości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Wielkością charakteryzującą energię potencjalną jest wysokość h. 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od 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oziomu, 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gdzie 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mownie  h=0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ergia potencjalna jest równa pracy potrzebnej do podniesienia ciała na pewną wysokość h z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 poziomu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</a:rPr>
              <a:t>gdzie h=0.</a:t>
            </a:r>
            <a:r>
              <a:rPr b="0" lang="pl-PL" sz="1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61722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0ae6a"/>
                </a:solidFill>
                <a:uFillTx/>
                <a:latin typeface="Times New Roman"/>
                <a:hlinkClick r:id="rId1" action="ppaction://hlinksldjump"/>
              </a:rPr>
              <a:t>Powrót do początku-slajd nr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3114-74B6-4747-AE77-DD8357A801B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-12276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ole grawitacyj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7620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ole grawitacyjne to cecha przestrzeni polegająca na tym, że na ciała posiadające masę </a:t>
            </a:r>
            <a:r>
              <a:rPr b="1" i="1" lang="pl-PL" sz="2000" spc="-1" strike="noStrike">
                <a:solidFill>
                  <a:srgbClr val="5b5249"/>
                </a:solidFill>
                <a:latin typeface="Times New Roman"/>
              </a:rPr>
              <a:t>umieszczone w tej przestrzeni </a:t>
            </a:r>
            <a:r>
              <a:rPr b="1" i="1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ziałają siły grawitacyjne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mownie pole grawitacyjne przedstawiamy graficznie za pomocą linii pola grawitacyjnego. Linie pola grawitacyjnego są to linie będące odzwierciedleniem torów, po których porusza się ciało pod działaniem</a:t>
            </a:r>
            <a:r>
              <a:rPr b="1" i="1" lang="pl-PL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ły grawitacyjnej</a:t>
            </a:r>
            <a:r>
              <a:rPr b="1" i="1" lang="pl-PL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.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ole grawitacyjne jest polem centralnym, tzn. takim, że źródło tego pola znajduje się w jego środku, a linie pola schodzą się promieniście do środka masy ciała wywołującego to pole. 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ole grawitacyjne jest też polem zachowawczym, tzn. takim, że praca wykonana przy przesuwaniu ciał nie zależy od drogi, a jedynie od przemieszczenia</a:t>
            </a:r>
            <a:r>
              <a:rPr b="1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tego ciała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ea typeface="Times New Roman"/>
                <a:hlinkClick r:id="rId1"/>
              </a:rPr>
              <a:t>http://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ea typeface="Times New Roman"/>
                <a:hlinkClick r:id="rId2"/>
              </a:rPr>
              <a:t>www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ea typeface="Times New Roman"/>
                <a:hlinkClick r:id="rId3"/>
              </a:rPr>
              <a:t>.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ea typeface="Times New Roman"/>
                <a:hlinkClick r:id="rId4"/>
              </a:rPr>
              <a:t>wsip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ea typeface="Times New Roman"/>
                <a:hlinkClick r:id="rId5"/>
              </a:rPr>
              <a:t>.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ea typeface="Times New Roman"/>
                <a:hlinkClick r:id="rId6"/>
              </a:rPr>
              <a:t>com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ea typeface="Times New Roman"/>
                <a:hlinkClick r:id="rId7"/>
              </a:rPr>
              <a:t>.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ea typeface="Times New Roman"/>
                <a:hlinkClick r:id="rId8"/>
              </a:rPr>
              <a:t>pl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ea typeface="Times New Roman"/>
                <a:hlinkClick r:id="rId9"/>
              </a:rPr>
              <a:t>/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ea typeface="Times New Roman"/>
                <a:hlinkClick r:id="rId10"/>
              </a:rPr>
              <a:t>oip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ea typeface="Times New Roman"/>
                <a:hlinkClick r:id="rId11"/>
              </a:rPr>
              <a:t>/fizyka_2/animacje/galeria_u.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ea typeface="Times New Roman"/>
                <a:hlinkClick r:id="rId12"/>
              </a:rPr>
              <a:t>html</a:t>
            </a:r>
            <a:r>
              <a:rPr b="0" lang="pl-PL" sz="2000" spc="-1" strike="noStrike" u="sng">
                <a:solidFill>
                  <a:srgbClr val="b0ae6a"/>
                </a:solidFill>
                <a:uFillTx/>
                <a:latin typeface="Times New Roman"/>
                <a:ea typeface="Times New Roman"/>
                <a:hlinkClick r:id="rId13"/>
              </a:rPr>
              <a:t>#</a:t>
            </a:r>
            <a:r>
              <a:rPr b="1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 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6019920"/>
            <a:ext cx="3657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0ae6a"/>
                </a:solidFill>
                <a:uFillTx/>
                <a:latin typeface="Times New Roman"/>
                <a:hlinkClick r:id="rId14" action="ppaction://hlinksldjump"/>
              </a:rPr>
              <a:t>Powrót do początku-slajd nr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27CA-7C82-4D4A-9C2C-6CEA08BF2B1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3:34:35Z</dcterms:created>
  <dc:creator>student4c</dc:creator>
  <dc:description/>
  <dc:language>en-US</dc:language>
  <cp:lastModifiedBy>WOM Gorzów Wlkp.</cp:lastModifiedBy>
  <dcterms:modified xsi:type="dcterms:W3CDTF">2003-03-07T00:44:49Z</dcterms:modified>
  <cp:revision>74</cp:revision>
  <dc:subject/>
  <dc:title>Rzuty ciał w polu grawitacyjnym</dc:title>
</cp:coreProperties>
</file>